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23D-2205-4A86-8E35-E8D7E5C3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BA1-FADE-4156-9A1C-BEC0614C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118-D7E6-4A0B-B172-948B692D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0E5-87C0-4328-AECC-B05017DB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58A-DBB6-414B-ACB9-FB2FFF63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972-3274-4C1C-8CDE-AEE4B939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EE6-18D4-43D0-8508-889C6325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473-65C2-4E47-BF3C-D7AEF10F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7A8-9F33-4EC4-BCDE-1954D85D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FC2-1974-4065-821A-4B11E842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2D4-0A6B-41C6-9060-C16F5EEA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C29-0700-43C1-A420-9260C1EC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F916-1F37-4E0F-B253-C0FB2E90B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1800" y="1044720"/>
            <a:ext cx="565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Big Bad Pig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0" y="20574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59280" y="2666880"/>
            <a:ext cx="3025440" cy="238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01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544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8616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76160" y="2022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724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57960" y="202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04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3412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2412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1484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1154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91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0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81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42640" y="2098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5796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1936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58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5780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95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764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596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429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71840" y="2666880"/>
            <a:ext cx="400032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24480" y="1946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15200" y="1946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264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94920" y="1946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86360" y="19461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43760" y="19461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33760" y="1946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52680" y="1946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7596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1120" y="2057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528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2412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46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656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953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286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2286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5684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056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6652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3356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0096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9096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5764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90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56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04760" y="1717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90560" y="1717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38480" y="1717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23920" y="1717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86040" y="1717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71840" y="1717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58360" y="17175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81240" y="17175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52320" y="1717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25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362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1800" y="144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988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4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6800" y="1371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528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6908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6320" y="1946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692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5480" y="1946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09880" y="1946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15000" y="1946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00960" y="194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154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6002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38080" y="1641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7616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61960" y="1641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47760" y="1641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0240" y="164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18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5744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3960" y="16416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3352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2T18:51:10Z</dcterms:modified>
  <cp:revision>8</cp:revision>
  <dc:subject/>
  <dc:title>No Slide Title</dc:title>
</cp:coreProperties>
</file>